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ECF7-9FEB-42F8-A5FE-FDFF56C3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B184-E84C-490A-ADA5-1E3C8669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05C2-8179-4E3D-8D26-22A40AB3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22A4-7F4E-4284-99B9-469BFAE5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31BC-3CF4-4DC5-97D4-2266BB84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1698-236C-4BB8-9788-133CD179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BDA2-0AF5-42A3-8386-C28EFC88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7B35-4835-45C3-AF71-909FAE43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7543-4F06-4A70-8404-9C61381E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67B4-656A-4424-AA55-239A2D6B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D0F7-CB63-4586-95CE-F021A949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110C-0EBD-4836-A435-1DF624D2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357C-4625-454D-B1C4-9CFDBD2F853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ALA Docu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Calibri"/>
              </a:rPr>
              <a:t>IALA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E65F-4E30-4B6A-8B3C-BCA959EB9C1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B682-A068-46D8-B62E-A11230CCAA5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g00000c687777.tmp" descr="C:\Users\phild\AppData\Local\MindMaple\Temp\Img00000c687777.tmp"/>
          <p:cNvPicPr/>
          <p:nvPr/>
        </p:nvPicPr>
        <p:blipFill>
          <a:blip r:embed="rId1"/>
          <a:stretch/>
        </p:blipFill>
        <p:spPr>
          <a:xfrm>
            <a:off x="395280" y="981000"/>
            <a:ext cx="842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8T15:03:11Z</dcterms:created>
  <dc:creator>PhilD</dc:creator>
  <dc:description/>
  <dc:language>en-US</dc:language>
  <cp:lastModifiedBy/>
  <dcterms:modified xsi:type="dcterms:W3CDTF">2013-05-01T08:37:40Z</dcterms:modified>
  <cp:revision>3</cp:revision>
  <dc:subject/>
  <dc:title>IALA Documentation</dc:title>
</cp:coreProperties>
</file>